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7.png" ContentType="image/png"/>
  <Override PartName="/ppt/media/image34.jpeg" ContentType="image/jpeg"/>
  <Override PartName="/ppt/media/image9.png" ContentType="image/png"/>
  <Override PartName="/ppt/media/image38.jpeg" ContentType="image/jpeg"/>
  <Override PartName="/ppt/media/image11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44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5.png" ContentType="image/png"/>
  <Override PartName="/ppt/media/image35.png" ContentType="image/png"/>
  <Override PartName="/ppt/media/image43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0161-0433-4E24-A624-44EB78CEDF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bies were taught at a very young age not to cry because it might scare off the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four years old the girls would accompany their mother with her chores and the boys would listen to war stories and practice their bow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s and girls never played together, they knew they had separate roles in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age of 13, men went on Vision Qu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layed a game like stick ball (hocke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k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were taught at a very young age not to cry because it might scare off the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our years old the girls would accompany their mother with her chores and the boys would listen to war stories and practice their bow and arrow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ys and girls never played together, they knew they had separate roles in lif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age of 13, men went on Vision 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layed a game like stick ball (hoc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y live 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pi (teepee) is a portable house, great for the nomadic life of a Plains Indi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made up of 3-4 poles and up to 12 buffalo skins sewn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ing always faced the morning 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about one hour for a women to assemble the families ti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live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pi (teepee) is a portable house, great for the nomadic life of a Plains Indi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3-4 poles and up to 12 buffalo skins sewn toge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ing always faced the morning su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bout one hour for a women to assemble the families ti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rav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lives changed when they got horses. They traded or stole them from the Spanish settl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rses helped with hunting, intertribal trading and w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riors would paint their horses to show their history of batt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rav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lives changed when they got horses. They traded or stole them from the Spanish settl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rses helped with hunting, intertribal trading and w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riors would paint their horses to show their history of batt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Fash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wardrobe of deerskin and a winter wardrobe of buffal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Indian wore a belt to hang tools, knives or cups off of, since there were no pocke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ribe made a different moccasin, some were made from deerskin, quills, and be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pipes, long thin beads made from bones, were woven into the hair and kept for l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an has been a great warrior he would wear a war bonnet made of eagle feathers. The greater the warrior, the more feath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wardrobe of deerskin and a winter wardrobe of buffal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Indian wore a belt to hang tools, knives or cups off of, since there were no pock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be made a different moccasin, some were made from deerskin, quills, and b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pipes, long thin beads made from bones, were woven into the hair and kept for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man has been a great warrior he would wear a war bonnet made of eagle feathers. The greater the warrior, the more feath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hirts are made from human scalps…you don’t want to be a Plains Indian’s enem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hirts are made from human scalps…you don’t want to be a Plains Indian’s enem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each hunt they performed a buffalo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oot it took a whole tribe to catch a buffalo, they are very dangero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 heart was left on the plains as an off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and women would record their lives on buffalo hides using pictograph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each hunt they performed a buffalo d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foot it took a whole tribe to catch a buffalo, they are very dangero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ffalo heart was left on the plains as an off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and women would record their lives on buffalo hides using pictograph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lived in the middle region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oughly west of the Mississippi River and east of the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made up of miles of treeless grasslands….which is perfect grazing fields for buffal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lived in the middle region of the United St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oughly west of the Mississippi River and east of the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and is made up of miles of treeless grasslands….which is perfect grazing fields for buffal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hite man c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Indians were the tribes to hold onto their culture the longest out of all of the American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because the plains were the last to be settled and the hardest to live off 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white man came, it changed where they lived, the tools they used, and what they 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of the largest Indian Reservations are located in the Great Plains today. (South Dakota and Oklahom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hite man c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Indians were the tribes to hold onto their culture the longest out of all of the American India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 plains were the last to be settled and the hardest to live off o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white man came, it changed where they lived, the tools they used, and what they 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of the largest Indian Reservations are located in the Great Plains today. (South Dakota and Oklahom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ting Bu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zy Ho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ting B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zy Ho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ndian Reservations ar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ndian Reservations are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between the Mississip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 and the Rocky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etween the Mississ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 and the Rocky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ell known tribes in the Plains region are the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y moved around a lot you will find variations in the tribes, ex: the dakota-sioux, teton-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ll known tribes in the Plains region are th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y moved around a lot you will find variations in the tribes, ex: the dakota-sioux, teton-sio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hunters had the highest rank in their trib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also judged by how many horses he was able to obtain and if he shared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hunted deer, rabbit and el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s would pull their catch back to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hunters had the highest rank in their tri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was also judged by how many horses he was able to obtain and if he shared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hunted deer, rabbit and el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s would pull their catch back to cam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women excelled at quillwor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quills were sewn in clothing and used for artwork on tipi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chores were fetching water, sweeping, hoeing the fields, cooking and sew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nd far from rivers were tough to garden, but near rivers they would grow corn, squash and sun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ostly picked berries and n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een as inferior, not to speak unless spoke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 Lif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ins women excelled at quill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quills were sewn in clothing and used for artwork on tip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chores were fetching water, sweeping, hoeing the fields, cooking and sew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d far from rivers were tough to garden, but near rivers they would grow corn, squash and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stly picked berries and 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seen as inferior, not to speak unless spoke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E0E-5F16-484C-A310-ABD566A8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D309-BEE2-40AC-BD82-F8609008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55ABE-6429-4C68-A6F1-B79D04DC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E15E1-688B-4404-B8C8-BE5B1CDB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96235-8607-464B-80F3-C7689EC2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7190D-AE5A-45A7-AC50-E49BF4DA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C9083-9E20-4A1E-BD96-CE217377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28156-B9B6-4CD1-9269-7DC67572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26BB5-B5CA-4F65-8387-B0426AB8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44EF5-EBEA-451A-BB0C-ED9ADADF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B00A1-FA20-4969-A4D1-BDCEB119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7E6-0CAC-47B9-9CCA-CBD3E82B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0DA3-7938-45AB-A564-0269F322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C019-2590-4C59-A366-1F23D203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35F6-8732-48FB-976A-335C461F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44A4-18AB-4B5B-86EF-96D33103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4F61-040A-4935-95BD-BC2A005A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29D20-97A4-4BE6-AA23-9F9393DD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F30F-D4D5-4D1C-BA84-090A696D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A316-2E58-40C2-A65F-E099A341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1053-5F0B-4800-B2C4-AEBE3016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02A0-2EF1-4EB4-ABE4-366EF8C3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944C-C9D5-44C3-A855-E1409D79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4076-6BDE-45D2-A75E-7AD3E921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1ECF-D884-4158-AB95-B9A845F0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315B-FC4F-4506-8FAB-B0985EE0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3313D-12FF-48E6-A8B7-4B5346EF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75BCE-5159-4942-8658-1177D81A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5A796-3F05-4952-8E02-FF30A3CD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86071-500A-4F48-BB2F-E30D355D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C5979-D23F-49BF-B0B0-AE8E2356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EEC0-CBEB-4EA5-AC01-DD130E3E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EF309-B6C0-42E5-9D1E-ED276AA7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FED3-C862-4779-B85A-DF496572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41A77-94E5-4A49-8ED2-19820C9E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44F4-DC5E-4194-AC4B-5CB95BEF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90F7-3F1E-46AA-B0AC-67870FF9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EC646-8F02-4A2A-9A1E-91D9EF90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34AB-3BF2-4126-BEF0-4E845EB5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FAF1B-5FB5-43A8-9B8C-D90446E3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30D1A-56E0-4C2E-811E-7D883D82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F9CC0-860F-4E01-873B-0DBA080C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F2C-F85C-43A4-AAB1-BED91217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6129B-CD38-4EDB-8CB9-5E9664B8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D0C2D-716B-41FC-BF36-94572B07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110CA-4562-4570-BD28-4E9F99E9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563E2-E4BE-4BFF-874B-ECC3E600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1414F-8F43-409A-AA75-7442C402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9883C-B3CA-45A6-A264-3A48BE34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53577-CAE9-4F51-B67D-8480CA54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45DF6-82CE-41E5-8630-281E3A4A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079B9-688E-4E23-AC55-B5367E29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BC84E-BACD-4AA3-B327-F3622E3D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BAC1-7335-4BB1-8A41-5A5FCA61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D4EC3-0879-454E-B31D-B0C2EB5B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310D7-470E-41FB-A415-F82D9AC6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45213-DD11-4E37-84CC-767A0A09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5183F-F6DE-40D0-9CE6-655A538F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632A8-B7B8-4485-A7A0-316C9D0B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94E15-DD46-458E-B6DC-9DBD935C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24533-9F0F-4AE1-8741-A0F24D2C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9C0D7-BFFE-4A90-AD8D-6A8C222C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7ED71-1BCB-4AD7-87BF-2106607B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C0CF3-A924-403B-803C-836DB980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EA5F-4EE7-4EE4-BF3E-922848CD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F6049-CDCB-4FA0-9CFF-DCA7BA31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2B07D-EFED-458D-8042-81501C64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F3930-ECE3-42A1-9C36-547EF724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DCBF3-B173-4CD5-BFA1-BBADC77D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6615F-64CA-4666-8097-86BC66D8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39628-E24A-4A74-BDCA-78B772E7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6D6B4-A489-48EA-8E19-9E98E95D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00EFA-60A3-465D-A7EA-4A775E69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39FAA-1628-43A5-BB0A-2AC6BB89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6D42F-DA93-4542-97BA-F28094B3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EFF-6E5B-49CA-AF3B-16D9A07B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72C14-66E5-441C-9788-DB610679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94FA7-3D70-4FE3-AFB1-F7912508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6AB43-37B8-413B-B3DD-9669049D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55EDE-FE2C-4AF3-875F-687DCB9D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63379-0DD7-48D3-AAFF-13822144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33D99-AAB4-46F3-80F3-0CA779FD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B9F49-FDB6-41F4-9111-CA6E307C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62960-457F-4C67-B9F1-9F4E6C1E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28449-DE7F-4123-8C10-08013B85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1D98B-9A9E-4910-BBE0-39CCFA3A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CE3-C866-46C6-BA9D-4AD8473A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EBA72-3D45-47AE-8E33-A4791826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BF614-4488-4651-8AA5-1A058338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D8EDE-53B2-41DE-AFB1-3728D2AD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8D2C8-5B8E-497F-BFC4-E0761916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FC1B7-3A34-4997-A66D-CA3DA1E8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48D32-1D12-4ADB-AB36-251E7CB9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ADDB6-FAA2-4A25-81E9-3D4E389F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2D560-5D4B-43A8-B95F-ADFD5DE6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03486-42E9-491F-997B-A299C08E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D07C2-89FE-48A4-B703-0D1747E2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343-8C8F-4E4B-8745-A9B26859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4BA8C-0B78-48A1-8C6A-611C371E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58E69-4A01-4857-B482-21678D56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53865-E722-4B4C-A220-B2DD89AF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75657-7EB1-4675-8B9A-3855C0D6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7B868-C6E1-4E79-9DB2-B8D2D176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91A3A-D3E1-442E-8674-70F0B4FE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303E9-DD62-4323-A7A4-2DA6291C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F32D4-DC6F-42C9-A5F3-0B402159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73E4C-FA09-476D-A9FD-2D0A321D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660EB-99BA-4D17-9A12-7C97A46D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99B9-BCE8-4BCE-90D1-E8478BAC6DF5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1DFB-DC2F-4B7E-8403-2EA3707D304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A0C7-3FA1-4FC5-AAFD-AC4FDFF00147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8C62-ABB9-45D5-979A-F591D2A5A50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1E39-1F48-4201-A10B-5D73ADCAA7C0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256F-3487-4CE0-B1C5-CA0AF6C1436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6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26D7-14AA-4AD7-95FB-AEFC3F78B161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F3ED-B935-43A2-B097-0205562A366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0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Straight Connector 10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5377-EC4A-4CE6-B6BE-ECBF6EFDADD9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1C1A-C511-41FA-B123-E8EBEE79236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E9E1-3AF4-4B2A-9B03-6F988BF93D9C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1AB7-693C-4523-B462-4EA65CD729F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7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D934-889F-489A-AAC7-8C76AD422D5E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973A-934D-47A4-BEBF-064B33A5536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C88E-8254-4CB6-89E6-97062A452D90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7C7E-6827-4590-9748-6EDF972D36D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FA81-A4C4-4112-B97E-7116780045A1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ACEA-01E0-485F-B976-C5B020273B4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rds.yahoo.com/_ylt=A0WTb_hzv81IHJsAFWOJzbkF;_ylu=X3oDMTBpZm5udGl1BHBvcwM1BHNlYwNzcgR2dGlkAw--/SIG=1mp4j4fvv/EXP=1221529843/**http:/images.search.yahoo.com/images/view?back=http://images.search.yahoo.com/search/images?ei=UTF-8&amp;p=eagle%20feather%20headdress&amp;fr2=tab-web&amp;fr=yfp-t-501&amp;w=263&amp;h=450&amp;imgurl=www.liverpoolmuseums.org.uk/wml/humanworld/worldcultures/americas/Hiawatha/graphics/large/Feather_headdress.jpg&amp;rurl=http://www.liverpoolmuseums.org.uk/wml/humanworld/worldcultures/americas/hiawatha/feather_headdress.asp&amp;size=19.2kB&amp;name=Feather_headdress.jpg&amp;p=eagle+feather+headdress&amp;type=JPG&amp;oid=5b010c7f52811078&amp;no=5&amp;tt=36&amp;sigr=1377flcf2&amp;sigi=13fvpftqd&amp;sigb=13c612lkj" TargetMode="Externa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Nordamerikanische_Kulturareale_en.png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egendsofamerica.com/photos-nativeamerican/SiouxChiefs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egendsofamerica.com/photos-nativeamerican/SiouxIndians.jpg" TargetMode="External"/><Relationship Id="rId2" Type="http://schemas.openxmlformats.org/officeDocument/2006/relationships/hyperlink" Target="http://www.legendsofamerica.com/photos-nativeamerican/SiouxIndians.jpg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hyperlink" Target="http://rds.yahoo.com/_ylt=A0WTbx5Qwc1I0PsAtSyJzbkF;_ylu=X3oDMTBqY2pzbGhoBHBvcwMxMQRzZWMDc3IEdnRpZAM-/SIG=1jh8vq0u7/EXP=1221530320/**http:/images.search.yahoo.com/images/view?back=http://images.search.yahoo.com/search/images?p=dog+travois&amp;js=1&amp;ni=18&amp;ei=utf-8&amp;fr=yfp-t-501&amp;xargs=0&amp;pstart=1&amp;b=1&amp;w=449&amp;h=242&amp;imgurl=historyforkids.utah.gov/jump_in/images/kids--dogtravois_000.jpg&amp;rurl=http://historyforkids.utah.gov/jump_in/AncientDogsofUtah.html&amp;size=30.6kB&amp;name=kids--dogtravois_000.jpg&amp;p=dog+travois&amp;type=JPG&amp;oid=66e775b10f0d458c&amp;no=11&amp;tt=64&amp;sigr=11ts3fvvm&amp;sigi=11voji627&amp;sigb=13gvk743g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ld-picture.com/indians/Indian-Woman-Cooking.htm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old-picture.com/indians/Sioux-Indian-Maiden.htm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9000" y="4761000"/>
            <a:ext cx="8650080" cy="1315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Native American Teepee"/>
          <p:cNvPicPr/>
          <p:nvPr/>
        </p:nvPicPr>
        <p:blipFill>
          <a:blip r:embed="rId2"/>
          <a:stretch/>
        </p:blipFill>
        <p:spPr>
          <a:xfrm>
            <a:off x="2286000" y="990720"/>
            <a:ext cx="5010120" cy="33051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abies were taught at a very young age not to cry because it might scare off the food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four years old the girls would accompany their mother with her chores and the boys would listen to war stories and practice their bow and arrow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oys and girls never played together, they knew they had separate roles in life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the age of 13, men went on Vision Quest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y played a game like stick ball (hockey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tipi (teepee) is a portable house, great for the nomadic life of a Plains Indian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is made up of 3-4 poles and up to 12 buffalo skins sewn together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opening always faced the morning sun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takes about one hour for a women to assemble the families tip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Sioux tipis-tipi.co.uk,tipi,teepee,wigwam"/>
          <p:cNvPicPr/>
          <p:nvPr/>
        </p:nvPicPr>
        <p:blipFill>
          <a:blip r:embed="rId1"/>
          <a:stretch/>
        </p:blipFill>
        <p:spPr>
          <a:xfrm>
            <a:off x="380880" y="304920"/>
            <a:ext cx="4286520" cy="2952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4" descr="Making Camp"/>
          <p:cNvPicPr/>
          <p:nvPr/>
        </p:nvPicPr>
        <p:blipFill>
          <a:blip r:embed="rId2"/>
          <a:stretch/>
        </p:blipFill>
        <p:spPr>
          <a:xfrm>
            <a:off x="3962520" y="2979720"/>
            <a:ext cx="5181480" cy="387828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lives changed when they got horses. They traded or stole them from the Spanish settle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horses helped with hunting, intertribal trading and war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arriors would paint their horses to show their history of battl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http://rds.yahoo.com/_ylt=A0WTefhLuM1IRTwBdgajzbkF/SIG=129ovqv06/EXP=1221528011/**http%3A/eee.uci.edu/clients/tcthorne/Hist15/horses.gif"/>
          <p:cNvPicPr/>
          <p:nvPr/>
        </p:nvPicPr>
        <p:blipFill>
          <a:blip r:embed="rId1"/>
          <a:stretch/>
        </p:blipFill>
        <p:spPr>
          <a:xfrm>
            <a:off x="228600" y="838080"/>
            <a:ext cx="4600440" cy="49532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http://www.americanwest.com/critters/animages/gazette/pix56.jpg"/>
          <p:cNvPicPr/>
          <p:nvPr/>
        </p:nvPicPr>
        <p:blipFill>
          <a:blip r:embed="rId2"/>
          <a:stretch/>
        </p:blipFill>
        <p:spPr>
          <a:xfrm>
            <a:off x="4876920" y="533520"/>
            <a:ext cx="2857320" cy="195264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Shoshone Warrior &amp; Horse by Nativestock Pictures."/>
          <p:cNvPicPr/>
          <p:nvPr/>
        </p:nvPicPr>
        <p:blipFill>
          <a:blip r:embed="rId3"/>
          <a:stretch/>
        </p:blipFill>
        <p:spPr>
          <a:xfrm>
            <a:off x="4952880" y="2590920"/>
            <a:ext cx="2743200" cy="3998880"/>
          </a:xfrm>
          <a:prstGeom prst="rect">
            <a:avLst/>
          </a:prstGeom>
          <a:ln w="0">
            <a:noFill/>
          </a:ln>
        </p:spPr>
      </p:pic>
      <p:sp>
        <p:nvSpPr>
          <p:cNvPr id="454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Summer wardrobe of deerskin and a winter wardrobe of buffalo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very Indian wore a belt to hang tools, knives or cups off of, since there were no pocket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Each tribe made a different moccasin, some were made from deerskin, quills, and beads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Hairpipes, long thin beads made from bones, were woven into the hair and kept for life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If a man has been a great warrior he would wear a war bonnet made of eagle feathers. The greater the warrior, the more feather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Scalp Shirts"/>
          <p:cNvPicPr/>
          <p:nvPr/>
        </p:nvPicPr>
        <p:blipFill>
          <a:blip r:embed="rId1"/>
          <a:stretch/>
        </p:blipFill>
        <p:spPr>
          <a:xfrm>
            <a:off x="152280" y="228600"/>
            <a:ext cx="4614840" cy="3276720"/>
          </a:xfrm>
          <a:prstGeom prst="rect">
            <a:avLst/>
          </a:prstGeom>
          <a:ln w="0">
            <a:noFill/>
          </a:ln>
        </p:spPr>
      </p:pic>
      <p:sp>
        <p:nvSpPr>
          <p:cNvPr id="459" name="TextBox 4"/>
          <p:cNvSpPr/>
          <p:nvPr/>
        </p:nvSpPr>
        <p:spPr>
          <a:xfrm>
            <a:off x="228600" y="35053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These shirts are made from human scalps…you don’t want to be a Plains Indian’s enem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4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57200"/>
            <a:ext cx="1609560" cy="27813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http://www.d.umn.edu/~cheaslip/headdress.jpg"/>
          <p:cNvPicPr/>
          <p:nvPr/>
        </p:nvPicPr>
        <p:blipFill>
          <a:blip r:embed="rId4"/>
          <a:stretch/>
        </p:blipFill>
        <p:spPr>
          <a:xfrm>
            <a:off x="5127480" y="3886200"/>
            <a:ext cx="4016520" cy="2781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0" descr="Go to fullsize image"/>
          <p:cNvPicPr/>
          <p:nvPr/>
        </p:nvPicPr>
        <p:blipFill>
          <a:blip r:embed="rId5"/>
          <a:stretch/>
        </p:blipFill>
        <p:spPr>
          <a:xfrm>
            <a:off x="1447920" y="4202280"/>
            <a:ext cx="1676160" cy="265572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30492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efore each hunt they performed a buffalo d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n foot it took a whole tribe to catch a buffalo, they are very dangerou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buffalo heart was left on the plains as an offer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n and women would record their lives on buffalo hides using pictograph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http://rds.yahoo.com/_ylt=A0WTeffxuM1ILzMA2GCjzbkF/SIG=12i98eifn/EXP=1221528177/**http%3A/www.saskschools.ca/~gregory/firstnations/scans/uses.jpg"/>
          <p:cNvPicPr/>
          <p:nvPr/>
        </p:nvPicPr>
        <p:blipFill>
          <a:blip r:embed="rId1"/>
          <a:stretch/>
        </p:blipFill>
        <p:spPr>
          <a:xfrm>
            <a:off x="0" y="609480"/>
            <a:ext cx="9091440" cy="5715000"/>
          </a:xfrm>
          <a:prstGeom prst="rect">
            <a:avLst/>
          </a:prstGeom>
          <a:ln w="0">
            <a:noFill/>
          </a:ln>
        </p:spPr>
      </p:pic>
      <p:sp>
        <p:nvSpPr>
          <p:cNvPr id="46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Winter Count Hide"/>
          <p:cNvPicPr/>
          <p:nvPr/>
        </p:nvPicPr>
        <p:blipFill>
          <a:blip r:embed="rId1"/>
          <a:stretch/>
        </p:blipFill>
        <p:spPr>
          <a:xfrm>
            <a:off x="0" y="990720"/>
            <a:ext cx="5340240" cy="4419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4" descr="Image: Herd of buffalo feeding on the plain"/>
          <p:cNvPicPr/>
          <p:nvPr/>
        </p:nvPicPr>
        <p:blipFill>
          <a:blip r:embed="rId2"/>
          <a:stretch/>
        </p:blipFill>
        <p:spPr>
          <a:xfrm>
            <a:off x="4952880" y="380880"/>
            <a:ext cx="3048120" cy="20005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0" descr="http://upload.wikimedia.org/wikipedia/commons/thumb/8/8d/American_bison_k5680-1.jpg/180px-American_bison_k5680-1.jpg"/>
          <p:cNvPicPr/>
          <p:nvPr/>
        </p:nvPicPr>
        <p:blipFill>
          <a:blip r:embed="rId3"/>
          <a:stretch/>
        </p:blipFill>
        <p:spPr>
          <a:xfrm>
            <a:off x="5105520" y="2819520"/>
            <a:ext cx="3824280" cy="2485800"/>
          </a:xfrm>
          <a:prstGeom prst="rect">
            <a:avLst/>
          </a:prstGeom>
          <a:ln w="0">
            <a:noFill/>
          </a:ln>
        </p:spPr>
      </p:pic>
      <p:sp>
        <p:nvSpPr>
          <p:cNvPr id="47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lived in the middle region of the United State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is roughly west of the Mississippi River and east of the Rocky Mountai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land is made up of miles of treeless grasslands….which is perfect grazing fields for buffalo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30492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lains Indians were the tribes to hold onto their culture the longest out of all of the American Indian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s is because the plains were the last to be settled and the hardest to live off of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en the white man came, it changed where they lived, the tools they used, and what they at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 of the largest Indian Reservations are located in the Great Plains today. (South Dakota and Oklahoma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8" descr="Chief Sitting Bull"/>
          <p:cNvPicPr/>
          <p:nvPr/>
        </p:nvPicPr>
        <p:blipFill>
          <a:blip r:embed="rId1"/>
          <a:stretch/>
        </p:blipFill>
        <p:spPr>
          <a:xfrm>
            <a:off x="6934320" y="152280"/>
            <a:ext cx="2066760" cy="2971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Crazy"/>
          <p:cNvPicPr/>
          <p:nvPr/>
        </p:nvPicPr>
        <p:blipFill>
          <a:blip r:embed="rId2"/>
          <a:stretch/>
        </p:blipFill>
        <p:spPr>
          <a:xfrm>
            <a:off x="0" y="152280"/>
            <a:ext cx="3238560" cy="47628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4" descr="Crazy Horse model in foreground with mountain in background."/>
          <p:cNvPicPr/>
          <p:nvPr/>
        </p:nvPicPr>
        <p:blipFill>
          <a:blip r:embed="rId3"/>
          <a:stretch/>
        </p:blipFill>
        <p:spPr>
          <a:xfrm>
            <a:off x="2209680" y="3186000"/>
            <a:ext cx="5334120" cy="3672000"/>
          </a:xfrm>
          <a:prstGeom prst="rect">
            <a:avLst/>
          </a:prstGeom>
          <a:ln w="0">
            <a:noFill/>
          </a:ln>
        </p:spPr>
      </p:pic>
      <p:sp>
        <p:nvSpPr>
          <p:cNvPr id="479" name="TextBox 10"/>
          <p:cNvSpPr/>
          <p:nvPr/>
        </p:nvSpPr>
        <p:spPr>
          <a:xfrm>
            <a:off x="5715000" y="45720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itting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B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1"/>
          <p:cNvSpPr/>
          <p:nvPr/>
        </p:nvSpPr>
        <p:spPr>
          <a:xfrm>
            <a:off x="304920" y="53341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razy H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Image:Indian reservations.gif"/>
          <p:cNvPicPr/>
          <p:nvPr/>
        </p:nvPicPr>
        <p:blipFill>
          <a:blip r:embed="rId1"/>
          <a:stretch/>
        </p:blipFill>
        <p:spPr>
          <a:xfrm>
            <a:off x="152280" y="609480"/>
            <a:ext cx="8956800" cy="6058080"/>
          </a:xfrm>
          <a:prstGeom prst="rect">
            <a:avLst/>
          </a:prstGeom>
          <a:ln w="0">
            <a:noFill/>
          </a:ln>
        </p:spPr>
      </p:pic>
      <p:sp>
        <p:nvSpPr>
          <p:cNvPr id="483" name="TextBox 2"/>
          <p:cNvSpPr/>
          <p:nvPr/>
        </p:nvSpPr>
        <p:spPr>
          <a:xfrm>
            <a:off x="2666880" y="68580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here Indian Reservations are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515240" y="-3290760"/>
            <a:ext cx="22860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3" name="Picture 5" descr="Image:Nordamerikanische Kulturareale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Straight Arrow Connector 5" descr=""/>
          <p:cNvPicPr/>
          <p:nvPr/>
        </p:nvPicPr>
        <p:blipFill>
          <a:blip r:embed="rId3"/>
          <a:stretch/>
        </p:blipFill>
        <p:spPr>
          <a:xfrm>
            <a:off x="1731960" y="3371760"/>
            <a:ext cx="4565520" cy="1560600"/>
          </a:xfrm>
          <a:prstGeom prst="rect">
            <a:avLst/>
          </a:prstGeom>
          <a:ln w="0">
            <a:noFill/>
          </a:ln>
        </p:spPr>
      </p:pic>
      <p:sp>
        <p:nvSpPr>
          <p:cNvPr id="415" name="TextBox 6"/>
          <p:cNvSpPr/>
          <p:nvPr/>
        </p:nvSpPr>
        <p:spPr>
          <a:xfrm>
            <a:off x="304920" y="190512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In between the Mississip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iver and the Rocky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me well known tribes in the Plains region are the…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row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oux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eyen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pach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nce they moved around a lot you will find variations in the tribes, ex: the dakota-sioux, teton-sioux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Sioux Chief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4479840" cy="3200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Lakota Sioux Indian Village"/>
          <p:cNvPicPr/>
          <p:nvPr/>
        </p:nvPicPr>
        <p:blipFill>
          <a:blip r:embed="rId3"/>
          <a:stretch/>
        </p:blipFill>
        <p:spPr>
          <a:xfrm>
            <a:off x="3429000" y="2647800"/>
            <a:ext cx="5715000" cy="4210200"/>
          </a:xfrm>
          <a:prstGeom prst="rect">
            <a:avLst/>
          </a:prstGeom>
          <a:ln w="0">
            <a:noFill/>
          </a:ln>
        </p:spPr>
      </p:pic>
      <p:sp>
        <p:nvSpPr>
          <p:cNvPr id="42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best hunters had the highest rank in their tribe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 man was also judged by how many horses he was able to obtain and if he shared them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n hunted deer, rabbit and elk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ogs would pull their catch back to camp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>
            <a:hlinkClick r:id="rId1"/>
          </p:cNvPr>
          <p:cNvSpPr/>
          <p:nvPr/>
        </p:nvSpPr>
        <p:spPr>
          <a:xfrm>
            <a:off x="123840" y="-1257480"/>
            <a:ext cx="243828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Sioux Warrior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609480"/>
            <a:ext cx="3124080" cy="3355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Stock Photo of  native american indians ogallala sioux archival photo  "/>
          <p:cNvPicPr/>
          <p:nvPr/>
        </p:nvPicPr>
        <p:blipFill>
          <a:blip r:embed="rId4"/>
          <a:stretch/>
        </p:blipFill>
        <p:spPr>
          <a:xfrm>
            <a:off x="4495680" y="533520"/>
            <a:ext cx="4280040" cy="31431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http://rds.yahoo.com/_ylt=A0WTb_4cwc1Ifw0Bt8KjzbkF/SIG=12t0egdf0/EXP=1221530268/**http%3A/www.majesticview1.com/images/NAID%2520Pics/dog_indians_travois.jpg"/>
          <p:cNvPicPr/>
          <p:nvPr/>
        </p:nvPicPr>
        <p:blipFill>
          <a:blip r:embed="rId5"/>
          <a:stretch/>
        </p:blipFill>
        <p:spPr>
          <a:xfrm>
            <a:off x="5029200" y="4114800"/>
            <a:ext cx="2428920" cy="22478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990720" y="4648320"/>
            <a:ext cx="3182760" cy="1704960"/>
          </a:xfrm>
          <a:prstGeom prst="rect">
            <a:avLst/>
          </a:prstGeom>
          <a:ln w="0">
            <a:noFill/>
          </a:ln>
        </p:spPr>
      </p:pic>
      <p:sp>
        <p:nvSpPr>
          <p:cNvPr id="43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Plains women excelled at quillwork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se quills were sewn in clothing and used for artwork on tipis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omen chores were fetching water, sweeping, hoeing the fields, cooking and sewing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 land far from rivers were tough to garden, but near rivers they would grow corn, squash and sunflower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y mostly picked berries and nu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ey were seen as inferior, not to speak unless spoken t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Indian Woman Cook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971800" cy="39225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Sioux Indian Maid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228600"/>
            <a:ext cx="3429000" cy="47782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http://rds.yahoo.com/_ylt=A0WTb_iOwM1IS70ACSejzbkF/SIG=12pm9ipi3/EXP=1221530126/**http%3A/www.digital.library.upenn.edu/women/buffalo/garden/plate-3.gif"/>
          <p:cNvPicPr/>
          <p:nvPr/>
        </p:nvPicPr>
        <p:blipFill>
          <a:blip r:embed="rId5"/>
          <a:stretch/>
        </p:blipFill>
        <p:spPr>
          <a:xfrm>
            <a:off x="3200400" y="2838600"/>
            <a:ext cx="2828880" cy="4019400"/>
          </a:xfrm>
          <a:prstGeom prst="rect">
            <a:avLst/>
          </a:prstGeom>
          <a:ln w="0">
            <a:noFill/>
          </a:ln>
        </p:spPr>
      </p:pic>
      <p:sp>
        <p:nvSpPr>
          <p:cNvPr id="438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3:24:19Z</dcterms:created>
  <dc:creator>Christine Goff</dc:creator>
  <dc:description/>
  <dc:language>en-US</dc:language>
  <cp:lastModifiedBy>Legion</cp:lastModifiedBy>
  <dcterms:modified xsi:type="dcterms:W3CDTF">2017-07-05T12:20:17Z</dcterms:modified>
  <cp:revision>25</cp:revision>
  <dc:subject/>
  <dc:title>The Plains Indians</dc:title>
</cp:coreProperties>
</file>